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BEF8-14D5-4A36-9B44-9ADB84587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FA7F-CA49-4865-899C-DD00C27837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8FA9-FE3C-4049-BE94-D9E5E6F6B3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02EC-70CF-478A-B156-172F9FC00A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3DD5-3383-4344-B8A0-A79A7C1D37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4E0F-1EF1-423F-B4E1-03F5FE1948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98F3-7B66-49D2-970A-5E088DF4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3C46-DECA-49B6-8C50-2B1CAC42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4DDA-95EE-4975-AA8C-5CE2013A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5CD0-A0D2-40F8-A858-43714B62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C80E-DCF7-4871-9671-136ECB3C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5EA4-88EB-49D6-A14B-76911B1E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972E-D17A-4FD8-981F-B0869299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3CA5-04A0-4E29-9AA0-C77CEED3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F77F-5A75-4761-973E-1A36DDE8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1277-5151-4F3F-9FFE-FF319395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EF8F-DA95-4C5C-817E-610F94E5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621D-6496-4CB8-9318-3BD0554A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4F46-A1AD-4129-9400-F524992D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CACD-30B0-44A9-93DA-A9092076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20E8-8EB8-4383-AD9C-49D5BBF8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43DF-2630-468E-B02E-E1877C21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4CC2-D3D3-4A22-B3E7-F4B0AB50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56E0-3E94-40D0-9201-27440363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D791-9026-438D-90DB-13F76FD8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2B9D-003B-4054-9C51-DE68A087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FC8F-F73B-4D76-AFC0-34B307F7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8FCA-0A99-417A-AD76-1A5528A1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3EDE-EDBA-4FD9-9C73-924EFC29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54BB-71EF-4310-A23B-49554CAB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E128-5835-4FD6-9B08-36194A456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B4E6-E9C7-40A5-A9C2-C42743D49D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This is why I’m ho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xtreme unequal wealt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ory owners have more money then 95 percent of society can even imag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money is being made from poor children and wo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defend themselv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image_wealth"/>
          <p:cNvPicPr/>
          <p:nvPr/>
        </p:nvPicPr>
        <p:blipFill>
          <a:blip r:embed="rId4"/>
          <a:stretch/>
        </p:blipFill>
        <p:spPr>
          <a:xfrm>
            <a:off x="6324480" y="3886200"/>
            <a:ext cx="23148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do you think? A/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hould have a minimum w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vernment should offer programs to struggling fami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hould prevent: ignorant, criminal, weak people from reproducing (or limit amount of childr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rwin's Theo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y originally implies that stronger animals kill weaker 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nature by leaving only stro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5" descr="r?t=a&amp;d=us&amp;s=a&amp;c=p&amp;ti=1&amp;ai=30751&amp;l=dir&amp;o=0&amp;sv=0a30051a&amp;ip=465e209c&amp;u=http%3A%2F%2Fwww"/>
          <p:cNvPicPr/>
          <p:nvPr/>
        </p:nvPicPr>
        <p:blipFill>
          <a:blip r:embed="rId3"/>
          <a:stretch/>
        </p:blipFill>
        <p:spPr>
          <a:xfrm>
            <a:off x="7823160" y="0"/>
            <a:ext cx="1320840" cy="17524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giraffe_dog"/>
          <p:cNvPicPr/>
          <p:nvPr/>
        </p:nvPicPr>
        <p:blipFill>
          <a:blip r:embed="rId4"/>
          <a:stretch/>
        </p:blipFill>
        <p:spPr>
          <a:xfrm>
            <a:off x="0" y="4343400"/>
            <a:ext cx="2281320" cy="25146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8" descr="MCj02154980000[1]"/>
          <p:cNvPicPr/>
          <p:nvPr/>
        </p:nvPicPr>
        <p:blipFill>
          <a:blip r:embed="rId5"/>
          <a:stretch/>
        </p:blipFill>
        <p:spPr>
          <a:xfrm>
            <a:off x="3429000" y="2590920"/>
            <a:ext cx="1417680" cy="38098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9" descr="MCj02154980000[1]"/>
          <p:cNvPicPr/>
          <p:nvPr/>
        </p:nvPicPr>
        <p:blipFill>
          <a:blip r:embed="rId6"/>
          <a:stretch/>
        </p:blipFill>
        <p:spPr>
          <a:xfrm>
            <a:off x="5105520" y="4724280"/>
            <a:ext cx="1417680" cy="16765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MCj04417080000[1]"/>
          <p:cNvPicPr/>
          <p:nvPr/>
        </p:nvPicPr>
        <p:blipFill>
          <a:blip r:embed="rId7"/>
          <a:stretch/>
        </p:blipFill>
        <p:spPr>
          <a:xfrm>
            <a:off x="5105520" y="2590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1"/>
          <p:cNvSpPr/>
          <p:nvPr/>
        </p:nvSpPr>
        <p:spPr>
          <a:xfrm>
            <a:off x="3583080" y="63244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ENZ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5336280" y="632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y not huma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ry is used to construct Social Darwi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s belief that wealthy factory owners are naturally stro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ing the poor would only weaken human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7" descr="Mario Bros. Survival of the Fittest  T-Shirt"/>
          <p:cNvPicPr/>
          <p:nvPr/>
        </p:nvPicPr>
        <p:blipFill>
          <a:blip r:embed="rId4"/>
          <a:stretch/>
        </p:blipFill>
        <p:spPr>
          <a:xfrm>
            <a:off x="4648320" y="1600200"/>
            <a:ext cx="4403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ther view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l Marx – believed struggle between rich and poor would always lead to 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eliminate rich and poor which will eliminate 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 of Commu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5" descr="r?t=a&amp;d=us&amp;s=a&amp;c=p&amp;ti=1&amp;ai=30751&amp;l=dir&amp;o=0&amp;sv=0a300513&amp;ip=465e209c&amp;u=http%3A%2F%2Fwww"/>
          <p:cNvPicPr/>
          <p:nvPr/>
        </p:nvPicPr>
        <p:blipFill>
          <a:blip r:embed="rId4"/>
          <a:stretch/>
        </p:blipFill>
        <p:spPr>
          <a:xfrm>
            <a:off x="5486400" y="3352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 Policie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olition of property in land and application of all rents of land to public purpo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heavy progressive or graduated income t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olition of all right of inheri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scation of the property of all emigrants and reb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ization of credit in the hands of the state, by means of a national bank with state capital and an exclusive monopo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ization of the means of communication and transport in the hands of the 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 of factories and instruments of production owned by the state, the bringing into cultivation of waste lands, and the improvement of the soil generally in accordance with a common pl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al obligation of all to work.  Establishment of industrial armies, especially for agricul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ation of agriculture with manufacturing industries; gradual abolition of the distinction between town and country, by a more equable distribution of the population over the cou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. Free education for all children in public schools.  Abolition of child factory labor in its present form.  Combination of education with industrial production,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Social Darwinism justif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ny support for Social Darwinis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Marx correct, is the study of history the study of class strugg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heory would conservatives support?  Libera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3:39:20Z</dcterms:created>
  <dc:creator>Will Hall</dc:creator>
  <dc:description/>
  <dc:language>en-US</dc:language>
  <cp:lastModifiedBy>Kuenzi</cp:lastModifiedBy>
  <dcterms:modified xsi:type="dcterms:W3CDTF">2010-04-22T14:37:09Z</dcterms:modified>
  <cp:revision>8</cp:revision>
  <dc:subject/>
  <dc:title>Why do I have all this money</dc:title>
</cp:coreProperties>
</file>